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6.png" ContentType="image/png"/>
  <Override PartName="/ppt/media/image7.gif" ContentType="image/gi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810-BB0D-430B-B17A-B832512F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AD6-E540-455A-96E3-EB7A4CE6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55D-A820-479E-9552-83E6B00E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38D-72BE-4269-AA88-EB9ADB18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C59-085B-41FB-BA00-AD57C6A9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197-6A3D-47DE-A159-CC938F51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91A-8BAC-4E31-8834-5E071F8E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B8A-5D3B-4E96-929C-D7341C7C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91A-1C82-4F39-A158-44FB2EEC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6BA-7006-4304-BF1E-A494D2FC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A41-88AC-47E4-AAE8-6B018E57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44D-6B6F-4927-919D-D34BBF11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C385-4D13-43DC-99D4-5C4C9BED0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87640" y="3284640"/>
            <a:ext cx="3024360" cy="249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620640"/>
            <a:ext cx="6408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-MAIL BAT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JASO DUZUE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15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155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115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115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35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55640" y="1268280"/>
            <a:ext cx="763272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IDEOKONFERENTZIA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ZABALTZEN....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5400000">
            <a:off x="4452120" y="4464720"/>
            <a:ext cx="485640" cy="263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79640" y="692280"/>
            <a:ext cx="51116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3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3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979640" y="692280"/>
            <a:ext cx="51116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2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1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73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979640" y="692280"/>
            <a:ext cx="51116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1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1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73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771480" y="-374760"/>
            <a:ext cx="10688760" cy="76075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276720" y="2060640"/>
            <a:ext cx="2001600" cy="264960"/>
            <a:chOff x="3276720" y="2060640"/>
            <a:chExt cx="2001600" cy="264960"/>
          </a:xfrm>
        </p:grpSpPr>
        <p:grpSp>
          <p:nvGrpSpPr>
            <p:cNvPr id="55" name=""/>
            <p:cNvGrpSpPr/>
            <p:nvPr/>
          </p:nvGrpSpPr>
          <p:grpSpPr>
            <a:xfrm>
              <a:off x="3276720" y="2060640"/>
              <a:ext cx="274680" cy="264960"/>
              <a:chOff x="3276720" y="2060640"/>
              <a:chExt cx="274680" cy="264960"/>
            </a:xfrm>
          </p:grpSpPr>
          <p:pic>
            <p:nvPicPr>
              <p:cNvPr id="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2060640"/>
                <a:ext cx="274680" cy="26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3349800" y="2203560"/>
                <a:ext cx="71280" cy="7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003640" y="2060640"/>
              <a:ext cx="274680" cy="264960"/>
              <a:chOff x="5003640" y="2060640"/>
              <a:chExt cx="274680" cy="264960"/>
            </a:xfrm>
          </p:grpSpPr>
          <p:pic>
            <p:nvPicPr>
              <p:cNvPr id="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2060640"/>
                <a:ext cx="274680" cy="26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5076720" y="2203560"/>
                <a:ext cx="71640" cy="7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1" name=""/>
          <p:cNvGraphicFramePr/>
          <p:nvPr/>
        </p:nvGraphicFramePr>
        <p:xfrm>
          <a:off x="3635280" y="3933720"/>
          <a:ext cx="1352520" cy="65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35280" y="3933720"/>
                    <a:ext cx="135252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-68436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-30492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6516720" y="0"/>
            <a:ext cx="2411280" cy="1000080"/>
          </a:xfrm>
          <a:prstGeom prst="rect">
            <a:avLst/>
          </a:prstGeom>
          <a:ln w="0">
            <a:noFill/>
          </a:ln>
        </p:spPr>
      </p:pic>
    </p:spTree>
  </p:cSld>
  <p:transition spd="slow" advTm="100000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2448 0.00185 E">
                                      <p:cBhvr>
                                        <p:cTn id="92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025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251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4425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4506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300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3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003640" y="3902040"/>
            <a:ext cx="3888000" cy="2766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451640" y="6237360"/>
            <a:ext cx="1441440" cy="368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GUR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3082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1.94444E-006 5.37572E-006 C -0.00173 -0.01433 -0.00277 -0.03352 -0.00954 -0.04647 C -0.01527 -0.05734 -0.02309 -0.0652 -0.0302 -0.07398 C -0.03767 -0.08323 -0.04375 -0.09387 -0.05243 -0.10127 C -0.05538 -0.10381 -0.05902 -0.1052 -0.06197 -0.10774 C -0.07795 -0.12138 -0.08576 -0.13109 -0.10486 -0.13525 C -0.11961 -0.13294 -0.1335 -0.13502 -0.14444 -0.12046 C -0.14687 -0.11722 -0.14895 -0.11352 -0.15086 -0.10982 C -0.1552 -0.1015 -0.16354 -0.08439 -0.16354 -0.08439 C -0.17222 -0.04346 -0.16979 -0.00346 -0.1842 0.03399 C -0.1875 0.02058 -0.18906 0.00717 -0.19201 -0.00624 C -0.19479 -0.01872 -0.2 -0.03167 -0.20156 -0.04439 C -0.20329 -0.05826 -0.20503 -0.0615 -0.20954 -0.07398 C -0.21319 -0.08393 -0.21354 -0.09086 -0.22066 -0.0971 C -0.22586 -0.11884 -0.25399 -0.12393 -0.26822 -0.12878 C -0.29149 -0.12809 -0.31493 -0.12855 -0.33819 -0.1267 C -0.34982 -0.12577 -0.36788 -0.08739 -0.37309 -0.07398 C -0.37413 -0.06404 -0.375 -0.05433 -0.37621 -0.04439 C -0.37708 -0.03722 -0.37934 -0.02312 -0.37934 -0.02312 C -0.37986 -0.01456 -0.38003 -0.00601 -0.3809 0.00232 C -0.38125 0.00509 -0.38055 0.0118 -0.38263 0.01064 C -0.38333 0.01018 -0.39288 -0.01179 -0.39531 -0.01479 C -0.41597 -0.03884 -0.4335 -0.07514 -0.46197 -0.08439 C -0.47725 -0.09479 -0.48923 -0.09687 -0.50642 -0.09919 C -0.51336 -0.09849 -0.52031 -0.09826 -0.52708 -0.0971 C -0.53871 -0.09525 -0.55868 -0.07537 -0.5651 -0.06335 C -0.57309 -0.04832 -0.58263 -0.0319 -0.58263 -0.01248 C -0.58263 -0.01017 -0.58142 -0.01687 -0.5809 -0.01895 C -0.58229 -0.05965 -0.58368 -0.09202 -0.59531 -0.12878 C -0.59791 -0.14658 -0.6059 -0.16208 -0.61267 -0.17757 C -0.62066 -0.19583 -0.61614 -0.19121 -0.62534 -0.20485 C -0.62934 -0.21086 -0.63454 -0.21549 -0.63819 -0.22196 C -0.64392 -0.23236 -0.64079 -0.22843 -0.64757 -0.23445 C -0.63784 -0.24809 -0.62482 -0.25202 -0.61267 -0.25988 C -0.61007 -0.26335 -0.60677 -0.26635 -0.60486 -0.27051 C -0.60243 -0.2756 -0.6 -0.28739 -0.6 -0.28739 C -0.59947 -0.29433 -0.59913 -0.3015 -0.59843 -0.30843 C -0.59757 -0.31699 -0.59531 -0.33387 -0.59531 -0.33387 C -0.59652 -0.37433 -0.59583 -0.39329 -0.60642 -0.42682 C -0.60937 -0.43629 -0.61701 -0.44462 -0.62222 -0.45225 C -0.62569 -0.45734 -0.63333 -0.46705 -0.63333 -0.46705 C -0.6243 -0.47514 -0.63333 -0.4682 -0.61909 -0.47352 C -0.61059 -0.47653 -0.60208 -0.48023 -0.59375 -0.48393 C -0.58472 -0.49225 -0.57343 -0.49849 -0.56354 -0.5052 C -0.56093 -0.50682 -0.55833 -0.50797 -0.55555 -0.50936 C -0.55243 -0.51075 -0.546 -0.51352 -0.546 -0.51352 C -0.53281 -0.53109 -0.52239 -0.55144 -0.51267 -0.57271 C -0.51111 -0.57618 -0.50954 -0.57988 -0.50798 -0.58335 C -0.50434 -0.59144 -0.49843 -0.60878 -0.49843 -0.60878 C -0.49774 -0.61364 -0.49652 -0.62288 -0.49531 -0.62774 C -0.49427 -0.63213 -0.49201 -0.64046 -0.49201 -0.64046 C -0.49149 -0.6467 -0.49288 -0.6541 -0.49045 -0.65942 C -0.48941 -0.66196 -0.48611 -0.65849 -0.4842 -0.65734 C -0.47447 -0.65202 -0.48402 -0.65456 -0.47465 -0.6467 C -0.47222 -0.64462 -0.46927 -0.64393 -0.46666 -0.64254 C -0.45816 -0.63121 -0.44774 -0.6282 -0.43645 -0.62566 C -0.42864 -0.6215 -0.42239 -0.6171 -0.41423 -0.61502 C -0.39635 -0.60323 -0.37395 -0.61086 -0.35555 -0.61294 C -0.35034 -0.61479 -0.34757 -0.61502 -0.34288 -0.61919 C -0.34166 -0.62034 -0.34114 -0.62288 -0.33975 -0.62358 C -0.33732 -0.62497 -0.33437 -0.62497 -0.33177 -0.62566 C -0.32552 -0.63167 -0.32118 -0.63791 -0.31423 -0.64254 C -0.31163 -0.64601 -0.30902 -0.64971 -0.30642 -0.65317 C -0.30486 -0.65525 -0.30156 -0.65942 -0.30156 -0.65942 C -0.29982 -0.66404 -0.29913 -0.67306 -0.29375 -0.66589 C -0.29201 -0.66358 -0.29166 -0.66011 -0.29045 -0.65734 C -0.2875 -0.65017 -0.28107 -0.63537 -0.27621 -0.62982 C -0.26632 -0.61849 -0.25173 -0.61317 -0.23975 -0.6067 C -0.23003 -0.58751 -0.19791 -0.58196 -0.1809 -0.57919 C -0.16076 -0.57988 -0.14079 -0.58011 -0.12066 -0.58127 C -0.11562 -0.5815 -0.10937 -0.58658 -0.10486 -0.58751 C -0.09757 -0.5889 -0.0901 -0.5889 -0.08263 -0.58959 C -0.07048 -0.5993 -0.06423 -0.59722 -0.05711 -0.61502 C -0.05659 -0.61919 -0.05607 -0.62358 -0.05555 -0.62774 C -0.05503 -0.63121 -0.05659 -0.63722 -0.05399 -0.63838 C -0.05173 -0.6393 -0.05225 -0.63236 -0.05086 -0.62982 C -0.05 -0.6282 -0.04861 -0.62705 -0.04757 -0.62566 C -0.04409 -0.61156 -0.03663 -0.60138 -0.02864 -0.5919 C -0.02257 -0.5845 -0.01788 -0.57433 -0.01111 -0.56855 C -0.00364 -0.55514 0.00712 -0.54612 0.0191 -0.54103 C 0.03907 -0.52323 0.07709 -0.52046 0.1 -0.51791 C 0.10365 -0.51861 0.10764 -0.51814 0.11112 -0.51999 C 0.1132 -0.52115 0.11737 -0.52416 0.1158 -0.52624 C 0.11389 -0.52878 0.11059 -0.52485 0.10799 -0.52416 C 0.10591 -0.52277 0.10382 -0.52115 0.10157 -0.51999 C 0.09948 -0.51907 0.09723 -0.51907 0.09514 -0.51791 C 0.08803 -0.51375 0.08421 -0.50936 0.07622 -0.50728 C 0.06598 -0.49433 0.05608 -0.48092 0.04601 -0.46705 C 0.03907 -0.45757 0.03629 -0.44393 0.03021 -0.43329 C 0.02657 -0.39699 0.02275 -0.3593 0.04757 -0.33595 C 0.04966 -0.33179 0.05417 -0.33017 0.05556 -0.32554 C 0.05625 -0.32346 0.05573 -0.3193 0.054 -0.31907 C 0.03247 -0.31629 0.01059 -0.31768 -0.01111 -0.31699 C -0.01979 -0.31028 -0.02708 -0.30404 -0.03489 -0.29595 C -0.03784 -0.29271 -0.04166 -0.29086 -0.04444 -0.28739 C -0.046 -0.28531 -0.04757 -0.283 -0.0493 -0.28115 C -0.05225 -0.27814 -0.05868 -0.2726 -0.05868 -0.2726 C -0.06336 -0.26312 -0.06927 -0.25502 -0.07309 -0.24508 C -0.07569 -0.22774 -0.07777 -0.22543 -0.07934 -0.20485 C -0.07934 -0.20346 -0.08125 -0.16369 -0.07465 -0.15213 C -0.06788 -0.14011 -0.06267 -0.13664 -0.05399 -0.12878 C -0.05243 -0.12739 -0.0493 -0.12462 -0.0493 -0.12462 C -0.05295 -0.123 -0.05694 -0.12277 -0.06041 -0.12046 C -0.0618 -0.11953 -0.06232 -0.11722 -0.06354 -0.11606 C -0.06493 -0.11491 -0.06666 -0.11491 -0.06822 -0.11398 C -0.07916 -0.10682 -0.08697 -0.09317 -0.09375 -0.08023 C -0.10277 -0.04393 -0.09652 -0.01549 -0.06979 -0.00416 C -0.06458 0.00047 -0.05937 0.0007 -0.05399 0.0044 C -0.04322 0.01157 -0.05607 0.00625 -0.04288 0.01064 C -0.02916 0.00995 -0.01527 0.00972 -0.00156 0.00856 C -0.00121 0.00856 0.00903 0.0044 0.00799 0.00232 C 0.0066 -0.00069 0.00261 0.0007 -1.94444E-006 5.37572E-006 Z">
                                      <p:cBhvr>
                                        <p:cTn id="11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54:05Z</dcterms:created>
  <dc:creator>y</dc:creator>
  <dc:description/>
  <dc:language>en-US</dc:language>
  <cp:lastModifiedBy>y</cp:lastModifiedBy>
  <dcterms:modified xsi:type="dcterms:W3CDTF">2004-11-30T13:44:00Z</dcterms:modified>
  <cp:revision>18</cp:revision>
  <dc:subject/>
  <dc:title>Diapositiva 1</dc:title>
</cp:coreProperties>
</file>